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F43-C413-47B3-9313-FFF3F8DC8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6C15-C27F-4EE0-B02E-532F8E33C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0E2-B056-4B70-91AA-C188C4A7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E9D-DA21-457C-A782-02DC18F3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122-923A-4992-8878-38A22FB5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9C2-C73D-4FCA-87EB-E86CBDB4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D8E-20F8-4C8B-9485-C03E375F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FE8-9DE6-4E20-B1A4-8DCE9E00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D7EF-EC06-467D-BBDA-036875E3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7822-00BB-468F-A03C-B31FE947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8B6F-AE04-4470-ACF2-B80AA506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BAC2-58C4-4C99-A015-3B69FB2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E87-5C74-47EF-8B6E-944ECFD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000-1366-4883-8C2D-6AF6D868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7B75-A7D4-4FBC-A7DD-2045ABF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E65-9E36-4344-BCAE-D367E5C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EE0-C357-4B29-A6E2-F08C3F0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B887-8F0A-4317-B6C1-E10F2687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259F-52D2-4C60-9F9D-C8B641F6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F2CC-A96C-428C-8BBA-43435214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5229-4C53-4013-96D5-2473EFF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CE03-D618-4D1B-B6C3-1FD26894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1843-B6CA-4587-AA29-CDDFE5E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BE8F-E696-43E2-945F-34CAD8B0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E5E-9F91-4347-90B3-F3325B1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7F2A-81D4-402E-8265-7B0B3A0C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2DEC-947F-4B85-8D25-A21BC4F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985F-54BF-4710-B2B8-ACEB29C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6AFC-C25C-4574-87BE-CDD7A319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2066-606D-44FB-8DCE-73A06883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2531-2A53-468C-9C8B-985BDAEC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3D1B-CEA0-4094-A4DA-2A8F549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D9B5-330C-411F-BA1D-C0B804D6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72D8-8997-4E5E-B4B1-A321F43F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6F9E-C362-4C8F-B81E-6C494939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4A0-0B9D-41B2-BC1F-7F7EE58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0434-D900-4BB6-9CA2-2473467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BD1C-479B-46CD-9B0B-FD68F89D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31B8-DDC6-4041-A133-9F9D18E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E183-E591-4E4A-8D62-44AA214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38722-3271-4C2C-827E-F757257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17BF-F098-4956-BDCD-A389442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7DAF-BF4C-41E1-AC69-F9EB6E82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2069-8D5A-4369-A395-281E6A28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FB34-43FB-4881-9174-7FB69E0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F788-5AD6-406F-BB39-ADD88606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440-5B76-474B-89DD-E969475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60AB-347D-4A53-9E69-0C2DB6BB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F7F5-8A69-4FE8-8BF1-838BD5E5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95BD1-95F7-4A01-ABD6-171185C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1F8E-36A7-468B-B5BD-E70074B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4521-B1A4-4B83-8DF0-7363FA71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52315-9F7A-452B-9BB0-4B7B555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01577-457E-49DF-894B-7B63A08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EB33-1FF6-44BC-9888-088469AC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5DE47-A9FC-4506-B251-41684056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1091-7659-4A1A-8E4B-CAF2805C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FEE-0893-47CC-84BA-5A8E3FB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878E7-A839-46B7-B840-AD5DC34D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EDC3-C007-4E90-AC9B-593848B4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4854-E436-49CD-AAB5-92AF608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7416-E9E4-4D57-A374-40A0505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1451A-79A0-4AF7-B43D-D4253C1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EA15A-0351-422E-8B9B-78841B77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E8B1-31E8-4554-88A4-F919585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87D8-2292-4032-8EA8-6083EC3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FCEB-49B7-436F-8A40-C5EC0BA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83B4-9DE1-4CB5-8408-CE71C14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143-4902-4932-BD51-5BB13B6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3E7B-F7FC-45CE-87F8-71B5FAD4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A9818-8825-49D0-9A5E-C22D6CDC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362C-D4FF-40EB-A9CB-64113AD2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C2587-DF21-49D1-86D6-35791722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A8B7-612C-474F-8CE8-4EC2DF6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5690-CA3F-4F8F-AD7B-263CCF12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60EF-512C-4142-A1F8-C93211B5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88AE-F55A-4D1E-9498-4F9A892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57F0-BC1E-4705-883E-49C8218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1F84A-E2A1-4B4A-BE14-566F5B01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7BC-8A37-4F4B-B233-57FE750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7566-091E-49F8-8AD1-9F3CE16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8C82-BB5A-4AE4-B812-535C6965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096B-67BE-407B-88A7-0054BAE4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EC2F-4C2E-4B68-9EE2-56FE9E1E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97AA-8FF8-4A1E-B53C-245FA7B5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2DB-0F53-454A-A120-50DC40B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FB5-1D19-4771-A7C4-F67B28700B3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955D-4B07-4CC6-9D81-B22825AFB7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23E-0BCB-42ED-9862-AAB5044E6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BA97-BC70-496A-A0C2-AB4EA9F28C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C41D-62C5-4086-88B1-0CF20AF2171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7CAD-5552-4ED0-9365-8C5E18FEC2D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DAB-658A-4AB9-83BD-15DD2CF56B3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50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– the king of Uruk; eager for f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– Gilgamesh’s friend; faithful and dedic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mbaba – evil; deformed giant and forest guardi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IC IDEAL?  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eter Book – a manuscript of miscellaneous Anglo-Saxon poems dating from 940 AD, copied in 975 AD, and 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ai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xtremely e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perior s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s the theme of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eowulf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eowulf 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nferth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unting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othgar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eats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’s mom 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erot 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yrd – pagan goddess of fat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iglaf 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owulf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mothe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 &amp; Grendel’s mothe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and Grendel’s mother’s lair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t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Trina</cp:lastModifiedBy>
  <dcterms:modified xsi:type="dcterms:W3CDTF">2009-01-07T17:23:52Z</dcterms:modified>
  <cp:revision>8</cp:revision>
  <dc:subject/>
  <dc:title>Anglo-Saxon Literature</dc:title>
</cp:coreProperties>
</file>